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A0575-AB86-47EA-89E7-4D9D3F11E6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D9B11-D925-4A3A-98CE-06C64B16C8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980D1-0CC3-43E9-A1AB-C399A3B024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3C24-B281-4FB9-9145-F83C34640D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0F431-C40F-4D2B-9D13-B01CE9CFD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EF30-00E1-4269-81B1-E3D33C0F33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F7505-41FA-4D2A-85D5-75D9CDA1BE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5609B-7D1F-427A-891B-031A8F9911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9388-6811-4F3C-B794-83CBB6CCCD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6E2E6-108B-4D5F-A8D0-66B0BF6CEB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AD2F-2310-49A5-A37D-D3D66C6A48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49711-0D74-4BC4-8244-C86DEBD4BB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AA9A-3BDB-4D70-97EF-5423EBDC2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C1D9-C16E-4F66-B047-B3091496F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2AD5-67EF-4DDF-ADFE-B6126809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E963-7405-4002-A933-33A8446D8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1F49-50E9-411D-869F-682C3E9F6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ECAF-89EE-44E5-99F2-B7B7E3AC8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15A2-96D2-485B-8962-A3DB81CFB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AA1C-B23E-4C52-BFA3-A982EA974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C180-56C0-4319-9EEC-02F71E730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B8BC-A250-484D-8477-3113BBDB3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E0A6-EB6E-47D6-ABB4-7942BEEFB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A466-39A1-45AC-9F9D-0B52CCA96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E9EF65-1907-4630-AFA4-9910DDAF0E3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3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2922480" cy="306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900000" y="1166760"/>
            <a:ext cx="80996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imal toma el alimento sin masticar y lo envía a la p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panza unos microorganismos que viven allí comienzan la digest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s del alimento vuelven a la boca del animal, donde se mastican. Decimos que el animal rum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masticado se traga de nuevo, pero esta vez pasa a la redecilla, el libro y el cuajar, donde terminan su digest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va al intestino, donde se absorben los nutrientes y se forman las hec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3"/>
          <a:stretch/>
        </p:blipFill>
        <p:spPr>
          <a:xfrm>
            <a:off x="4859280" y="3635280"/>
            <a:ext cx="2519280" cy="2287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rum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6696000" y="3635280"/>
            <a:ext cx="179640" cy="179640"/>
          </a:xfrm>
          <a:prstGeom prst="roundRect">
            <a:avLst>
              <a:gd name="adj" fmla="val 889"/>
            </a:avLst>
          </a:prstGeom>
          <a:solidFill>
            <a:srgbClr val="6b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6056280" y="5465880"/>
            <a:ext cx="179280" cy="179280"/>
          </a:xfrm>
          <a:prstGeom prst="roundRect">
            <a:avLst>
              <a:gd name="adj" fmla="val 889"/>
            </a:avLst>
          </a:prstGeom>
          <a:solidFill>
            <a:srgbClr val="23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7153200" y="3700440"/>
            <a:ext cx="179640" cy="179280"/>
          </a:xfrm>
          <a:prstGeom prst="roundRect">
            <a:avLst>
              <a:gd name="adj" fmla="val 8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6956280" y="4786200"/>
            <a:ext cx="179640" cy="179640"/>
          </a:xfrm>
          <a:prstGeom prst="roundRect">
            <a:avLst>
              <a:gd name="adj" fmla="val 8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4729320" y="492588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53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7" name="Picture 7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7093080" y="42210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uc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6875640" y="5013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le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1908000" y="544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2"/>
          <a:stretch/>
        </p:blipFill>
        <p:spPr>
          <a:xfrm>
            <a:off x="3913200" y="342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13"/>
          <p:cNvSpPr/>
          <p:nvPr/>
        </p:nvSpPr>
        <p:spPr>
          <a:xfrm>
            <a:off x="5935680" y="4508640"/>
            <a:ext cx="1585800" cy="32832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4406" h="913">
                <a:moveTo>
                  <a:pt x="4405" y="0"/>
                </a:move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reeform 15"/>
          <p:cNvSpPr/>
          <p:nvPr/>
        </p:nvSpPr>
        <p:spPr>
          <a:xfrm>
            <a:off x="4284720" y="4365720"/>
            <a:ext cx="1012680" cy="84780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35" h="2797">
                <a:moveTo>
                  <a:pt x="0" y="0"/>
                </a:moveTo>
                <a:lnTo>
                  <a:pt x="2134" y="27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Freeform 17"/>
          <p:cNvSpPr/>
          <p:nvPr/>
        </p:nvSpPr>
        <p:spPr>
          <a:xfrm>
            <a:off x="5213520" y="5184720"/>
            <a:ext cx="1941480" cy="19224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394" h="535">
                <a:moveTo>
                  <a:pt x="5393" y="0"/>
                </a:moveTo>
                <a:lnTo>
                  <a:pt x="0" y="5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3203640" y="5670720"/>
            <a:ext cx="1298520" cy="16488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3608" h="459">
                <a:moveTo>
                  <a:pt x="0" y="0"/>
                </a:moveTo>
                <a:lnTo>
                  <a:pt x="3607" y="4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916360" y="42210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ventríc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900000" y="1166760"/>
            <a:ext cx="809964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limento pasa de la boca al esófago, donde hay un ensanchamiento llamado buche, en el que se humedecen y ablandan los alimentos para una mejor digestión, e incluso para luego regurgitarlo para las crí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sigue hasta el estómago, formado por un proventrículo que segrega jugos digestivos, y una molleja cuya pared, muy musculosa, termina de triturar el al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molleja pasará al intestino, donde se mezclará con los jugos del hígado y del páncre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o desemboca en la cloa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49 Grupo"/>
          <p:cNvGrpSpPr/>
          <p:nvPr/>
        </p:nvGrpSpPr>
        <p:grpSpPr>
          <a:xfrm>
            <a:off x="2340000" y="1700280"/>
            <a:ext cx="4105080" cy="507960"/>
            <a:chOff x="2340000" y="1700280"/>
            <a:chExt cx="4105080" cy="507960"/>
          </a:xfrm>
        </p:grpSpPr>
        <p:sp>
          <p:nvSpPr>
            <p:cNvPr id="66" name="Freeform 12"/>
            <p:cNvSpPr/>
            <p:nvPr/>
          </p:nvSpPr>
          <p:spPr>
            <a:xfrm>
              <a:off x="2340000" y="1989360"/>
              <a:ext cx="4103640" cy="144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400" h="6">
                  <a:moveTo>
                    <a:pt x="0" y="0"/>
                  </a:moveTo>
                  <a:lnTo>
                    <a:pt x="11399" y="5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>
              <a:off x="2340000" y="1986120"/>
              <a:ext cx="1440" cy="222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" h="618">
                  <a:moveTo>
                    <a:pt x="0" y="617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>
              <a:off x="6443640" y="1986120"/>
              <a:ext cx="1440" cy="222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" h="618">
                  <a:moveTo>
                    <a:pt x="0" y="617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>
              <a:off x="4427640" y="1700280"/>
              <a:ext cx="1440" cy="28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5" h="803">
                  <a:moveTo>
                    <a:pt x="0" y="0"/>
                  </a:moveTo>
                  <a:lnTo>
                    <a:pt x="4" y="802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50 Grupo"/>
          <p:cNvGrpSpPr/>
          <p:nvPr/>
        </p:nvGrpSpPr>
        <p:grpSpPr>
          <a:xfrm>
            <a:off x="5292720" y="3141720"/>
            <a:ext cx="2376360" cy="506520"/>
            <a:chOff x="5292720" y="3141720"/>
            <a:chExt cx="2376360" cy="506520"/>
          </a:xfrm>
        </p:grpSpPr>
        <p:sp>
          <p:nvSpPr>
            <p:cNvPr id="71" name="Freeform 16"/>
            <p:cNvSpPr/>
            <p:nvPr/>
          </p:nvSpPr>
          <p:spPr>
            <a:xfrm>
              <a:off x="5292720" y="3358080"/>
              <a:ext cx="2374920" cy="14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98" h="5">
                  <a:moveTo>
                    <a:pt x="0" y="0"/>
                  </a:moveTo>
                  <a:lnTo>
                    <a:pt x="6597" y="4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5292720" y="3354840"/>
              <a:ext cx="1440" cy="293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" h="817">
                  <a:moveTo>
                    <a:pt x="0" y="816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7667640" y="3354840"/>
              <a:ext cx="1440" cy="293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" h="817">
                  <a:moveTo>
                    <a:pt x="0" y="816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6444000" y="3141720"/>
              <a:ext cx="1440" cy="215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" h="601">
                  <a:moveTo>
                    <a:pt x="0" y="0"/>
                  </a:moveTo>
                  <a:lnTo>
                    <a:pt x="4" y="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41 Grupo"/>
          <p:cNvGrpSpPr/>
          <p:nvPr/>
        </p:nvGrpSpPr>
        <p:grpSpPr>
          <a:xfrm>
            <a:off x="3492360" y="692280"/>
            <a:ext cx="1800360" cy="1008000"/>
            <a:chOff x="3492360" y="692280"/>
            <a:chExt cx="1800360" cy="1008000"/>
          </a:xfrm>
        </p:grpSpPr>
        <p:sp>
          <p:nvSpPr>
            <p:cNvPr id="76" name="AutoShape 7"/>
            <p:cNvSpPr/>
            <p:nvPr/>
          </p:nvSpPr>
          <p:spPr>
            <a:xfrm>
              <a:off x="3492360" y="692280"/>
              <a:ext cx="1800360" cy="1008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3492360" y="980280"/>
              <a:ext cx="17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42 Grupo"/>
          <p:cNvGrpSpPr/>
          <p:nvPr/>
        </p:nvGrpSpPr>
        <p:grpSpPr>
          <a:xfrm>
            <a:off x="1403280" y="2133720"/>
            <a:ext cx="1800360" cy="1079280"/>
            <a:chOff x="1403280" y="2133720"/>
            <a:chExt cx="1800360" cy="1079280"/>
          </a:xfrm>
        </p:grpSpPr>
        <p:sp>
          <p:nvSpPr>
            <p:cNvPr id="79" name="AutoShape 8">
              <a:hlinkClick r:id="rId2" action="ppaction://hlinksldjump"/>
            </p:cNvPr>
            <p:cNvSpPr/>
            <p:nvPr/>
          </p:nvSpPr>
          <p:spPr>
            <a:xfrm>
              <a:off x="1403280" y="2133720"/>
              <a:ext cx="180036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21">
              <a:hlinkClick r:id="rId3" action="ppaction://hlinksldjump"/>
            </p:cNvPr>
            <p:cNvSpPr/>
            <p:nvPr/>
          </p:nvSpPr>
          <p:spPr>
            <a:xfrm>
              <a:off x="1475280" y="2277360"/>
              <a:ext cx="158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SIN APARAT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43 Grupo"/>
          <p:cNvGrpSpPr/>
          <p:nvPr/>
        </p:nvGrpSpPr>
        <p:grpSpPr>
          <a:xfrm>
            <a:off x="5580000" y="2133720"/>
            <a:ext cx="1800360" cy="1079280"/>
            <a:chOff x="5580000" y="2133720"/>
            <a:chExt cx="1800360" cy="1079280"/>
          </a:xfrm>
        </p:grpSpPr>
        <p:sp>
          <p:nvSpPr>
            <p:cNvPr id="82" name="AutoShape 9">
              <a:hlinkClick r:id="rId4" action="ppaction://hlinksldjump"/>
            </p:cNvPr>
            <p:cNvSpPr/>
            <p:nvPr/>
          </p:nvSpPr>
          <p:spPr>
            <a:xfrm>
              <a:off x="5580000" y="2133720"/>
              <a:ext cx="180036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22">
              <a:hlinkClick r:id="rId5" action="ppaction://hlinksldjump"/>
            </p:cNvPr>
            <p:cNvSpPr/>
            <p:nvPr/>
          </p:nvSpPr>
          <p:spPr>
            <a:xfrm>
              <a:off x="5580000" y="22773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IMALES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APARAT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44 Grupo"/>
          <p:cNvGrpSpPr/>
          <p:nvPr/>
        </p:nvGrpSpPr>
        <p:grpSpPr>
          <a:xfrm>
            <a:off x="4067280" y="3645000"/>
            <a:ext cx="2449440" cy="936360"/>
            <a:chOff x="4067280" y="3645000"/>
            <a:chExt cx="2449440" cy="936360"/>
          </a:xfrm>
        </p:grpSpPr>
        <p:sp>
          <p:nvSpPr>
            <p:cNvPr id="85" name="AutoShape 10">
              <a:hlinkClick r:id="rId6" action="ppaction://hlinksldjump"/>
            </p:cNvPr>
            <p:cNvSpPr/>
            <p:nvPr/>
          </p:nvSpPr>
          <p:spPr>
            <a:xfrm>
              <a:off x="4067280" y="3645000"/>
              <a:ext cx="2449440" cy="936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23">
              <a:hlinkClick r:id="rId7" action="ppaction://hlinksldjump"/>
            </p:cNvPr>
            <p:cNvSpPr/>
            <p:nvPr/>
          </p:nvSpPr>
          <p:spPr>
            <a:xfrm>
              <a:off x="4067280" y="3789360"/>
              <a:ext cx="244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CAVIDAD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GASTROVASCULA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47 Grupo"/>
          <p:cNvGrpSpPr/>
          <p:nvPr/>
        </p:nvGrpSpPr>
        <p:grpSpPr>
          <a:xfrm>
            <a:off x="6659640" y="5516640"/>
            <a:ext cx="1584360" cy="792000"/>
            <a:chOff x="6659640" y="5516640"/>
            <a:chExt cx="1584360" cy="792000"/>
          </a:xfrm>
        </p:grpSpPr>
        <p:sp>
          <p:nvSpPr>
            <p:cNvPr id="88" name="AutoShape 29">
              <a:hlinkClick r:id="rId8" action="ppaction://hlinksldjump"/>
            </p:cNvPr>
            <p:cNvSpPr/>
            <p:nvPr/>
          </p:nvSpPr>
          <p:spPr>
            <a:xfrm>
              <a:off x="6659640" y="5516640"/>
              <a:ext cx="158436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30">
              <a:hlinkClick r:id="rId9" action="ppaction://hlinksldjump"/>
            </p:cNvPr>
            <p:cNvSpPr/>
            <p:nvPr/>
          </p:nvSpPr>
          <p:spPr>
            <a:xfrm>
              <a:off x="6659640" y="572796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UMIA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48 Grupo"/>
          <p:cNvGrpSpPr/>
          <p:nvPr/>
        </p:nvGrpSpPr>
        <p:grpSpPr>
          <a:xfrm>
            <a:off x="5003640" y="5516640"/>
            <a:ext cx="1513080" cy="792000"/>
            <a:chOff x="5003640" y="5516640"/>
            <a:chExt cx="1513080" cy="792000"/>
          </a:xfrm>
        </p:grpSpPr>
        <p:sp>
          <p:nvSpPr>
            <p:cNvPr id="91" name="AutoShape 32">
              <a:hlinkClick r:id="rId10" action="ppaction://hlinksldjump"/>
            </p:cNvPr>
            <p:cNvSpPr/>
            <p:nvPr/>
          </p:nvSpPr>
          <p:spPr>
            <a:xfrm>
              <a:off x="5003640" y="5516640"/>
              <a:ext cx="151308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33">
              <a:hlinkClick r:id="rId11" action="ppaction://hlinksldjump"/>
            </p:cNvPr>
            <p:cNvSpPr/>
            <p:nvPr/>
          </p:nvSpPr>
          <p:spPr>
            <a:xfrm>
              <a:off x="5003640" y="573264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ARAC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Text Box 40"/>
          <p:cNvSpPr/>
          <p:nvPr/>
        </p:nvSpPr>
        <p:spPr>
          <a:xfrm>
            <a:off x="250920" y="566100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53 Grupo"/>
          <p:cNvGrpSpPr/>
          <p:nvPr/>
        </p:nvGrpSpPr>
        <p:grpSpPr>
          <a:xfrm>
            <a:off x="3419640" y="5516640"/>
            <a:ext cx="1439640" cy="792000"/>
            <a:chOff x="3419640" y="5516640"/>
            <a:chExt cx="1439640" cy="792000"/>
          </a:xfrm>
        </p:grpSpPr>
        <p:sp>
          <p:nvSpPr>
            <p:cNvPr id="95" name="AutoShape 32">
              <a:hlinkClick r:id="rId12" action="ppaction://hlinksldjump"/>
            </p:cNvPr>
            <p:cNvSpPr/>
            <p:nvPr/>
          </p:nvSpPr>
          <p:spPr>
            <a:xfrm>
              <a:off x="3419640" y="5516640"/>
              <a:ext cx="1439640" cy="792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Text Box 33">
              <a:hlinkClick r:id="rId13" action="ppaction://hlinksldjump"/>
            </p:cNvPr>
            <p:cNvSpPr/>
            <p:nvPr/>
          </p:nvSpPr>
          <p:spPr>
            <a:xfrm>
              <a:off x="3419640" y="57542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70 Grupo"/>
          <p:cNvGrpSpPr/>
          <p:nvPr/>
        </p:nvGrpSpPr>
        <p:grpSpPr>
          <a:xfrm>
            <a:off x="4066920" y="4437000"/>
            <a:ext cx="4321440" cy="1087560"/>
            <a:chOff x="4066920" y="4437000"/>
            <a:chExt cx="4321440" cy="1087560"/>
          </a:xfrm>
        </p:grpSpPr>
        <p:sp>
          <p:nvSpPr>
            <p:cNvPr id="98" name="Freeform 36"/>
            <p:cNvSpPr/>
            <p:nvPr/>
          </p:nvSpPr>
          <p:spPr>
            <a:xfrm>
              <a:off x="7740360" y="4941000"/>
              <a:ext cx="1440" cy="29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" h="821">
                  <a:moveTo>
                    <a:pt x="0" y="820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69 Grupo"/>
            <p:cNvGrpSpPr/>
            <p:nvPr/>
          </p:nvGrpSpPr>
          <p:grpSpPr>
            <a:xfrm>
              <a:off x="4066920" y="4437000"/>
              <a:ext cx="4321440" cy="1087560"/>
              <a:chOff x="4066920" y="4437000"/>
              <a:chExt cx="4321440" cy="108756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7740360" y="443700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406728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56 CuadroTexto"/>
              <p:cNvSpPr/>
              <p:nvPr/>
            </p:nvSpPr>
            <p:spPr>
              <a:xfrm>
                <a:off x="7452360" y="4653000"/>
                <a:ext cx="93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com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774036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6"/>
              <p:cNvSpPr/>
              <p:nvPr/>
            </p:nvSpPr>
            <p:spPr>
              <a:xfrm>
                <a:off x="5651640" y="5229360"/>
                <a:ext cx="1440" cy="2952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6" h="821">
                    <a:moveTo>
                      <a:pt x="0" y="820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68 Conector recto"/>
              <p:cNvSpPr/>
              <p:nvPr/>
            </p:nvSpPr>
            <p:spPr>
              <a:xfrm flipH="1">
                <a:off x="4066920" y="5229360"/>
                <a:ext cx="36730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45 Grupo"/>
          <p:cNvGrpSpPr/>
          <p:nvPr/>
        </p:nvGrpSpPr>
        <p:grpSpPr>
          <a:xfrm>
            <a:off x="6804000" y="3645000"/>
            <a:ext cx="1728720" cy="936360"/>
            <a:chOff x="6804000" y="3645000"/>
            <a:chExt cx="1728720" cy="936360"/>
          </a:xfrm>
        </p:grpSpPr>
        <p:sp>
          <p:nvSpPr>
            <p:cNvPr id="107" name="AutoShape 11">
              <a:hlinkClick r:id="rId14" action="ppaction://hlinksldjump"/>
            </p:cNvPr>
            <p:cNvSpPr/>
            <p:nvPr/>
          </p:nvSpPr>
          <p:spPr>
            <a:xfrm>
              <a:off x="6804000" y="3645000"/>
              <a:ext cx="1728720" cy="9363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24">
              <a:hlinkClick r:id="rId15" action="ppaction://hlinksldjump"/>
            </p:cNvPr>
            <p:cNvSpPr/>
            <p:nvPr/>
          </p:nvSpPr>
          <p:spPr>
            <a:xfrm>
              <a:off x="6804000" y="3790800"/>
              <a:ext cx="172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CON TUBO DIGES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7"/>
          <p:cNvSpPr/>
          <p:nvPr/>
        </p:nvSpPr>
        <p:spPr>
          <a:xfrm>
            <a:off x="971640" y="22050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gestión es la transformación de los alimentos llevada a cabo por los animales para aprovechar su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00000" y="1268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¿Qué es la digest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316560" cy="3753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1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8"/>
          <p:cNvSpPr/>
          <p:nvPr/>
        </p:nvSpPr>
        <p:spPr>
          <a:xfrm>
            <a:off x="971640" y="1341360"/>
            <a:ext cx="7416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ponjas carecen de aparato diges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sorben el agua a través de sus po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 su cuerpo, unas células especializadas capta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utrientes disueltos en el agua, y los digieren e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itoplas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aparat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308720" y="5084640"/>
            <a:ext cx="16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Arial"/>
              </a:rPr>
              <a:t>Recorrido del agua en el interior de una espo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55640" y="403848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élula especializada en captar nutrientes del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3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7"/>
          <p:cNvSpPr/>
          <p:nvPr/>
        </p:nvSpPr>
        <p:spPr>
          <a:xfrm>
            <a:off x="971640" y="1419120"/>
            <a:ext cx="7272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gestión con aparato digestivo es propia de la gran mayoría de animales (la excepción son las esponj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urre según las etap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alimento se tritura por procesos mecánicos y se separan sus moléculas por procesos quím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nutrientes son absorbidos y se llevan a las célu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restos no aprovechables se expulsan al ex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aparat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376360" cy="2529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4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 Box 8"/>
          <p:cNvSpPr/>
          <p:nvPr/>
        </p:nvSpPr>
        <p:spPr>
          <a:xfrm>
            <a:off x="971640" y="1419120"/>
            <a:ext cx="72723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cnidarios y los platelmint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avidades gastrovasculares tienen forma de saco que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veces, puede estar ram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o tienen una salida al exterior, que sirve tanto par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rada de alimentos como para la salida de desech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 la cavidad se realiza la digestión. Las células de las paredes de la cavidad absorben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cavidades gastrovas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580000" y="39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vidad gastrovascu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580000" y="47052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ertura al ex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692360" y="523224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Cavidad gastrovascular de una espo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4540320" y="4170240"/>
            <a:ext cx="132696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4302000" y="4760640"/>
            <a:ext cx="1555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892600" y="2806560"/>
            <a:ext cx="3492360" cy="3719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0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8"/>
          <p:cNvSpPr/>
          <p:nvPr/>
        </p:nvSpPr>
        <p:spPr>
          <a:xfrm>
            <a:off x="971640" y="141912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ubo digestivo es un largo conducto con una abertura de entrada (boca) y una de salida (an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ás sencillos, como los de los anélidos, tienen zonas especializadas en triturar el alimento, pero carecen de glándulas diges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tub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835280" y="5232240"/>
            <a:ext cx="165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Tubo digestivo de un anél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048360" y="4654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6003720" y="4873680"/>
            <a:ext cx="54900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075280" y="3419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 flipV="1">
            <a:off x="3654360" y="3498480"/>
            <a:ext cx="19843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219640" y="4005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leja (tritura el aliment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 flipH="1">
            <a:off x="3564000" y="4149720"/>
            <a:ext cx="20556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396540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7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0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8"/>
          <p:cNvSpPr/>
          <p:nvPr/>
        </p:nvSpPr>
        <p:spPr>
          <a:xfrm>
            <a:off x="900000" y="126828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ás complejos, como los de los moluscos, los artrópodos y los vertebrados, tienen tramos especializad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glándulas digestivas para facilitar la digestión al producir sustancias que rompen las molécu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443640" y="400536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Tubo digestivo de un mamífero rumi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403280" y="4200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059280" y="34275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826920" y="4867200"/>
            <a:ext cx="121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ómag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: p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: redeci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: lib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: cuaj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995640" y="299556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075280" y="333684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435640" y="47768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91280" y="535464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ándulas digestiva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843280" y="4075200"/>
            <a:ext cx="1152360" cy="1081080"/>
          </a:xfrm>
          <a:prstGeom prst="ellipse">
            <a:avLst/>
          </a:prstGeom>
          <a:noFill/>
          <a:ln w="2556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274920" y="4200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2987640" y="4416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419640" y="4487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274920" y="46512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35 Grupo"/>
          <p:cNvGrpSpPr/>
          <p:nvPr/>
        </p:nvGrpSpPr>
        <p:grpSpPr>
          <a:xfrm>
            <a:off x="4124160" y="4678200"/>
            <a:ext cx="1217880" cy="1490760"/>
            <a:chOff x="4124160" y="4678200"/>
            <a:chExt cx="1217880" cy="1490760"/>
          </a:xfrm>
        </p:grpSpPr>
        <p:sp>
          <p:nvSpPr>
            <p:cNvPr id="196" name="Freeform 22"/>
            <p:cNvSpPr/>
            <p:nvPr/>
          </p:nvSpPr>
          <p:spPr>
            <a:xfrm>
              <a:off x="4124160" y="4678200"/>
              <a:ext cx="15840" cy="1487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87880"/>
                <a:gd name="textAreaBottom" fmla="*/ 1488240 h 1487880"/>
              </a:gdLst>
              <a:ahLst/>
              <a:rect l="textAreaLeft" t="textAreaTop" r="textAreaRight" b="textAreaBottom"/>
              <a:pathLst>
                <a:path w="46" h="4133">
                  <a:moveTo>
                    <a:pt x="45" y="0"/>
                  </a:moveTo>
                  <a:lnTo>
                    <a:pt x="0" y="41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4"/>
            <p:cNvSpPr/>
            <p:nvPr/>
          </p:nvSpPr>
          <p:spPr>
            <a:xfrm>
              <a:off x="4125600" y="6167520"/>
              <a:ext cx="1216440" cy="144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379" h="6">
                  <a:moveTo>
                    <a:pt x="0" y="0"/>
                  </a:moveTo>
                  <a:lnTo>
                    <a:pt x="3378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34 Grupo"/>
          <p:cNvGrpSpPr/>
          <p:nvPr/>
        </p:nvGrpSpPr>
        <p:grpSpPr>
          <a:xfrm>
            <a:off x="3995640" y="4738680"/>
            <a:ext cx="1319400" cy="1201680"/>
            <a:chOff x="3995640" y="4738680"/>
            <a:chExt cx="1319400" cy="1201680"/>
          </a:xfrm>
        </p:grpSpPr>
        <p:sp>
          <p:nvSpPr>
            <p:cNvPr id="199" name="Freeform 23"/>
            <p:cNvSpPr/>
            <p:nvPr/>
          </p:nvSpPr>
          <p:spPr>
            <a:xfrm>
              <a:off x="3995640" y="4738680"/>
              <a:ext cx="1440" cy="1190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6" h="3309">
                  <a:moveTo>
                    <a:pt x="0" y="0"/>
                  </a:moveTo>
                  <a:lnTo>
                    <a:pt x="5" y="33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3995640" y="5927760"/>
              <a:ext cx="1319400" cy="1260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666" h="37">
                  <a:moveTo>
                    <a:pt x="0" y="36"/>
                  </a:moveTo>
                  <a:lnTo>
                    <a:pt x="36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Freeform 26"/>
          <p:cNvSpPr/>
          <p:nvPr/>
        </p:nvSpPr>
        <p:spPr>
          <a:xfrm>
            <a:off x="2157480" y="5038560"/>
            <a:ext cx="903240" cy="360360"/>
          </a:xfrm>
          <a:custGeom>
            <a:avLst/>
            <a:gdLst>
              <a:gd name="textAreaLeft" fmla="*/ 0 w 903240"/>
              <a:gd name="textAreaRight" fmla="*/ 903600 w 903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510" h="1002">
                <a:moveTo>
                  <a:pt x="2509" y="0"/>
                </a:moveTo>
                <a:lnTo>
                  <a:pt x="0" y="1001"/>
                </a:lnTo>
              </a:path>
            </a:pathLst>
          </a:custGeom>
          <a:noFill/>
          <a:ln w="25200">
            <a:solidFill>
              <a:srgbClr val="0084d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7"/>
          <p:cNvSpPr/>
          <p:nvPr/>
        </p:nvSpPr>
        <p:spPr>
          <a:xfrm>
            <a:off x="2158920" y="4859280"/>
            <a:ext cx="1800" cy="1260360"/>
          </a:xfrm>
          <a:custGeom>
            <a:avLst/>
            <a:gdLst>
              <a:gd name="textAreaLeft" fmla="*/ 0 w 1800"/>
              <a:gd name="textAreaRight" fmla="*/ 2160 w 18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6" h="3502">
                <a:moveTo>
                  <a:pt x="0" y="0"/>
                </a:moveTo>
                <a:lnTo>
                  <a:pt x="5" y="3501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28"/>
          <p:cNvSpPr/>
          <p:nvPr/>
        </p:nvSpPr>
        <p:spPr>
          <a:xfrm>
            <a:off x="1979640" y="4859280"/>
            <a:ext cx="179280" cy="1800"/>
          </a:xfrm>
          <a:custGeom>
            <a:avLst/>
            <a:gdLst>
              <a:gd name="textAreaLeft" fmla="*/ 0 w 179280"/>
              <a:gd name="textAreaRight" fmla="*/ 179640 w 1792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99" h="5">
                <a:moveTo>
                  <a:pt x="0" y="0"/>
                </a:moveTo>
                <a:lnTo>
                  <a:pt x="498" y="4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29"/>
          <p:cNvSpPr/>
          <p:nvPr/>
        </p:nvSpPr>
        <p:spPr>
          <a:xfrm>
            <a:off x="1979640" y="6118200"/>
            <a:ext cx="179280" cy="1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99" h="6">
                <a:moveTo>
                  <a:pt x="0" y="0"/>
                </a:moveTo>
                <a:lnTo>
                  <a:pt x="498" y="5"/>
                </a:lnTo>
              </a:path>
            </a:pathLst>
          </a:custGeom>
          <a:noFill/>
          <a:ln w="25200">
            <a:solidFill>
              <a:srgbClr val="0084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30"/>
          <p:cNvSpPr/>
          <p:nvPr/>
        </p:nvSpPr>
        <p:spPr>
          <a:xfrm>
            <a:off x="2671920" y="3733920"/>
            <a:ext cx="742680" cy="428400"/>
          </a:xfrm>
          <a:custGeom>
            <a:avLst/>
            <a:gdLst>
              <a:gd name="textAreaLeft" fmla="*/ 0 w 742680"/>
              <a:gd name="textAreaRight" fmla="*/ 743040 w 7426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064" h="1192">
                <a:moveTo>
                  <a:pt x="2063" y="0"/>
                </a:moveTo>
                <a:lnTo>
                  <a:pt x="0" y="11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31"/>
          <p:cNvSpPr/>
          <p:nvPr/>
        </p:nvSpPr>
        <p:spPr>
          <a:xfrm>
            <a:off x="4371840" y="3522600"/>
            <a:ext cx="57240" cy="924120"/>
          </a:xfrm>
          <a:custGeom>
            <a:avLst/>
            <a:gdLst>
              <a:gd name="textAreaLeft" fmla="*/ 0 w 57240"/>
              <a:gd name="textAreaRight" fmla="*/ 57600 w 572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160" h="2567">
                <a:moveTo>
                  <a:pt x="159" y="0"/>
                </a:moveTo>
                <a:lnTo>
                  <a:pt x="0" y="25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4746600" y="3714840"/>
            <a:ext cx="360360" cy="63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02" h="1756">
                <a:moveTo>
                  <a:pt x="1001" y="0"/>
                </a:moveTo>
                <a:lnTo>
                  <a:pt x="0" y="17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33"/>
          <p:cNvSpPr/>
          <p:nvPr/>
        </p:nvSpPr>
        <p:spPr>
          <a:xfrm>
            <a:off x="5075280" y="4583160"/>
            <a:ext cx="423720" cy="312840"/>
          </a:xfrm>
          <a:custGeom>
            <a:avLst/>
            <a:gdLst>
              <a:gd name="textAreaLeft" fmla="*/ 0 w 423720"/>
              <a:gd name="textAreaRight" fmla="*/ 424080 w 4237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1178" h="870">
                <a:moveTo>
                  <a:pt x="1177" y="86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82692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con tubo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6512040" y="58086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7301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5456" y="3803"/>
                </a:lnTo>
                <a:lnTo>
                  <a:pt x="5456" y="17815"/>
                </a:lnTo>
                <a:lnTo>
                  <a:pt x="3794" y="17815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6948360" y="587700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2843280" y="2898720"/>
            <a:ext cx="377964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1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digestión en diferente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8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8"/>
          <p:cNvSpPr/>
          <p:nvPr/>
        </p:nvSpPr>
        <p:spPr>
          <a:xfrm>
            <a:off x="755640" y="1197000"/>
            <a:ext cx="8099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gestión comienza cuando el caracol toma los alimentos con una especie de lengua dentada a la que se denomina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rádu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hí pasa a una cavidad bucal donde el alimento se mezcla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l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orto esófago lleva el alimento al estómago. Las glándulas salivales se encuentran rodeando al estómago, aunque vierten a la cavidad buc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estómago pasa al intestino, que tiene forma espiral, y desemboca e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no que, curiosamente, está cerca de la cabe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gestión en un cara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65164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11"/>
          <p:cNvSpPr/>
          <p:nvPr/>
        </p:nvSpPr>
        <p:spPr>
          <a:xfrm>
            <a:off x="4788000" y="4508640"/>
            <a:ext cx="1439640" cy="7794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3441" h="2365">
                <a:moveTo>
                  <a:pt x="3440" y="0"/>
                </a:moveTo>
                <a:lnTo>
                  <a:pt x="0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364000" y="3716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3"/>
          <p:cNvSpPr/>
          <p:nvPr/>
        </p:nvSpPr>
        <p:spPr>
          <a:xfrm>
            <a:off x="4427640" y="4076640"/>
            <a:ext cx="1238040" cy="85104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440" h="2365">
                <a:moveTo>
                  <a:pt x="3439" y="0"/>
                </a:moveTo>
                <a:lnTo>
                  <a:pt x="0" y="23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403280" y="378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15"/>
          <p:cNvSpPr/>
          <p:nvPr/>
        </p:nvSpPr>
        <p:spPr>
          <a:xfrm>
            <a:off x="2771640" y="4005360"/>
            <a:ext cx="1509840" cy="96336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4195" h="2678">
                <a:moveTo>
                  <a:pt x="0" y="0"/>
                </a:moveTo>
                <a:lnTo>
                  <a:pt x="4194" y="26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84360" y="4508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1979640" y="4653000"/>
            <a:ext cx="1673280" cy="5205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649" h="1447">
                <a:moveTo>
                  <a:pt x="0" y="0"/>
                </a:moveTo>
                <a:lnTo>
                  <a:pt x="4648" y="14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7020000" y="4581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eeform 19"/>
          <p:cNvSpPr/>
          <p:nvPr/>
        </p:nvSpPr>
        <p:spPr>
          <a:xfrm>
            <a:off x="5292720" y="4869000"/>
            <a:ext cx="1728720" cy="6634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4803" h="1844">
                <a:moveTo>
                  <a:pt x="4802" y="0"/>
                </a:moveTo>
                <a:lnTo>
                  <a:pt x="0" y="18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7308720" y="5157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ád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1"/>
          <p:cNvSpPr/>
          <p:nvPr/>
        </p:nvSpPr>
        <p:spPr>
          <a:xfrm>
            <a:off x="5940360" y="5300640"/>
            <a:ext cx="1649520" cy="41112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582" h="1143">
                <a:moveTo>
                  <a:pt x="4581" y="0"/>
                </a:moveTo>
                <a:lnTo>
                  <a:pt x="0" y="1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4:24Z</dcterms:modified>
  <cp:revision>27</cp:revision>
  <dc:subject/>
  <dc:title>Presentación de PowerPoint</dc:title>
</cp:coreProperties>
</file>